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CA3-0FA4-4854-A27B-5228ADC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8E2-E17E-48B9-B993-64925939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759-9820-4E02-92BF-9689CFAF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B40-045A-4BA5-A01C-7BBD3D19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B10-A4C4-4BAA-AEFC-5EB596A9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BB3-5346-4EAD-A264-72C2EC4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442-9B7A-4CED-A061-87F7ED6D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8BD-FF3F-4C8D-9FB6-B25EE474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DB6-BDD2-4AD6-BD8A-AEFB7F0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8F8-357D-4480-BC8E-07309AB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0C9-CEB1-47BC-902F-889C37F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259-1581-4261-BA80-029565C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01CC-6F8F-4B3D-9E28-EE7006FC942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16:25Z</dcterms:created>
  <dc:creator>Grupo Editorial</dc:creator>
  <dc:description/>
  <dc:language>en-US</dc:language>
  <cp:lastModifiedBy>TORRES</cp:lastModifiedBy>
  <dcterms:modified xsi:type="dcterms:W3CDTF">2010-12-18T22:18:05Z</dcterms:modified>
  <cp:revision>2</cp:revision>
  <dc:subject/>
  <dc:title>Sin título de diapositiva</dc:title>
</cp:coreProperties>
</file>